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0980-C8A1-4DA7-B120-53BCA5CA3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6055-D596-4B93-9572-10BFC1CE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9F0-269C-4D68-B7E7-4954EC83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E72-C457-4E14-988C-8CE46AD7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54A-D478-4A34-B5E8-861F1008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624-194C-4991-B94B-C46C1BE9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0B0-E3FD-4F1B-93E7-076CECB9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36B-E239-4574-BBFB-E9548779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797-B8B2-4540-A6E2-8F9DAC80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7BD-9C19-472D-9CE4-9B6CCEB4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B65-B033-4040-A2DC-8EDF8FBB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FDA-8E85-4859-B1D1-7DEEBC9B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FA4-CC3B-4913-B67F-856A9FF2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1B5-516E-4198-9A69-DF05F4DC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8A3E-AABD-4153-A5C9-E120D7CA3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uste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día esta muy bonito ¿ Que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tambié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al película quieres ir a 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muy bien.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146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4156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943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8:02Z</dcterms:created>
  <dc:creator>FriscoISD</dc:creator>
  <dc:description/>
  <dc:language>en-US</dc:language>
  <cp:lastModifiedBy>User</cp:lastModifiedBy>
  <dcterms:modified xsi:type="dcterms:W3CDTF">2012-12-05T14:56:18Z</dcterms:modified>
  <cp:revision>106</cp:revision>
  <dc:subject/>
  <dc:title>Profile</dc:title>
</cp:coreProperties>
</file>